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F9B-D56C-449E-A33B-3F1497ED2A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quanto riguarda la valutazione, a richiesta dell’interessato, il periodo preso in oggetto dalla procedura di valutazione riguarda gli ultimi tre anni di servizio prestato dall’interess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caso in cui il servizio triennale non sia stato svolto interamente nella scuola di attuale servizio del docente, il dirigente scolastico acquisisce gli opportuni elementi di inform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riferimento alla riabilitazione, il Comitato annulla gli effetti delle sanzioni disciplinari inflitte ai docenti a condizione che il sanzionato abbia mantenuto unacondotta meritevole. Dall’annullamento degli effetti della sanzione non può derivare al sanzionato alcun diritto di risarcimento per la sanzione comunque scont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utte le sanzioni possono essere annullate a due anni di distanza dalla loro applicazione. La sospensione dall’insegnamento per sei mesi e l’utilizzazione, trascorso questo periodo, in compiti diversi dall’insegnamento o dalla funzione direttiva possono essere annullati allo scadere del quinto anno successivo all’appl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queste due fattispecie il comitato opera con la presenza dei genitori e degli studenti, salvo che la valutazione del docente riguardi un membro del comitato che verrà sostituito dal consiglio di istit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DF6-0CBE-473E-9567-AEFB08B038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9688-CD51-4F10-A323-E2AE86DC55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62C6-874C-44C8-AF9D-170C4D1ECA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7C9-8B3B-48BB-8C7A-9BC0670E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99E-5985-4776-AB18-C57651A1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258-EE65-44F4-ABB9-31943B43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B9C-357C-42AE-BAC3-42F64427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13E-E456-43A6-9F09-3C55938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5D2-E1E8-46A1-9B36-93FB44B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4CF-286F-499D-B176-4AA114A4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18A-E378-4B6E-94F5-079A6A2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02A-14C8-4729-A085-264CD3FC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A27-3A01-48AF-8864-D5C246F7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0F1-9094-4885-B71E-AD6079E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9C2-C0A7-4573-8C80-73B7529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a cura di 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A38-DE2F-4AF7-A67A-89B1FC9A122C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vzoCGQklonkXfM&amp;tbnid=s3a0mfhDY2KdzM:&amp;ved=0CAUQjRw&amp;url=http%3A%2F%2Fpolitica.excite.it%2F&amp;ei=IpZJU_uoDoXPsgaPi4DoCw&amp;bvm=bv.64542518,d.bGE&amp;psig=AFQjCNEQUtsgWYuWqeP2SsaruS5v50t0Bg&amp;ust=1397417850206757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isismagrinimarchetti.it%2Fcalendario-scolastico&amp;ei=UCc1VZrWEsTOaPOegJgB&amp;bvm=bv.91071109,d.ZGU&amp;psig=AFQjCNFP-0TSj_KzvBvMsn1GUko3t-fcSw&amp;ust=1429633190314694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google.it/imgres?imgurl&amp;imgrefurl=http%3A%2F%2Fwww.vip.it%2Fsvizzera-nasce-il-partito-contro-le-diapositive-ed-il-power-point%2Friunione-aziendale%2F&amp;h=0&amp;w=0&amp;tbnid=d-lD2kdfaYcb6M&amp;zoom=1&amp;tbnh=195&amp;tbnw=258&amp;docid=XgcSJDc8vifEOM&amp;tbm=isch&amp;ei=H5CHU5LVGca0PPmXgZgL&amp;ved=0CAUQsCUoAQ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3k6p6kAJIagXBM&amp;tbnid=r4E6oY3vwl_bkM:&amp;ved=0CAUQjRw&amp;url=http%3A%2F%2Fwww.adiantum.it%2Fpublic%2F2336-contratto-prematrimoniale--come-funziona-(se-funziona)-in-italia--.asp&amp;ei=c-SIU9mjLoGYO4m4gPAJ&amp;bvm=bv.67720277,d.d2k&amp;psig=AFQjCNEZcLlBQL8xBjXcUw7tZEPepWL8sg&amp;ust=1401566696267557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lasocietainclasse.it%2Flinks&amp;ei=C44zVdPwJZbxaL36gegP&amp;psig=AFQjCNFqRYCv2cMJZTaXgmbJtwkg0TZytA&amp;ust=1429528375532417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ogle.it/url?sa=i&amp;rct=j&amp;q=&amp;esrc=s&amp;source=images&amp;cd=&amp;cad=rja&amp;uact=8&amp;ved=&amp;url=http%3A%2F%2Fwww.domotica.it%2Fexpo%2Fschede%2Fkblue_srl_ita.htm&amp;ei=t40zVZrjCsvQ7Ab0moHoAQ&amp;psig=AFQjCNFqRYCv2cMJZTaXgmbJtwkg0TZytA&amp;ust=1429528375532417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6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hyperlink" Target="http://www.google.it/url?sa=i&amp;rct=j&amp;q=&amp;esrc=s&amp;source=images&amp;cd=&amp;cad=rja&amp;uact=8&amp;ved=0CAcQjRw&amp;url=http%3A%2F%2Fwww.formazioneliguria.com%2Fcorsi-sicurezza%2Ffigure%2F55.html&amp;ei=lI4zVYvoAdPpaJ60gJAO&amp;psig=AFQjCNFG8k6LJCA0HLLWpLo_jezfEonL-A&amp;ust=1429528579202607" TargetMode="External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&amp;url=http%3A%2F%2Fwww.guide360.it%2Fdiventare-insegnante-di-sostegno.html&amp;ei=neUzVeCyO-S57gbS6YHACA&amp;bvm=bv.91071109,d.ZGU&amp;psig=AFQjCNFk2T2C3aKBXic4aDcICEbsUb-J8w&amp;ust=1429550878505820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e-dna.it%2Fweb-agency%2Fformazione%2F&amp;ei=f-QzVcKXDs7oaJKagbgO&amp;bvm=bv.91071109,d.ZGU&amp;psig=AFQjCNEYX5fUugBazooCL_v275cxIluReA&amp;ust=142955051521959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documentazione.info%2Fscuole-paritarie-in-europa-quanto-costano&amp;ei=hZQzVcrqDsL2avPwgOAC&amp;psig=AFQjCNFsVHEh4tWy8lfWJTeG3OP4WoLiDA&amp;ust=1429530104016073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8"/>
          <p:cNvSpPr/>
          <p:nvPr/>
        </p:nvSpPr>
        <p:spPr>
          <a:xfrm>
            <a:off x="1547640" y="549360"/>
            <a:ext cx="655344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Palace Script MT"/>
                <a:ea typeface="Verdana"/>
              </a:rPr>
              <a:t>Ministero dell’Istruzione, dell’ Università e della Ricer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Ufficio Scolastico Regionale per la Camp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DIREZIONE  GENER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Immagine 9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50" name="Rettangolo 10" descr=""/>
          <p:cNvPicPr/>
          <p:nvPr/>
        </p:nvPicPr>
        <p:blipFill>
          <a:blip r:embed="rId2"/>
          <a:stretch/>
        </p:blipFill>
        <p:spPr>
          <a:xfrm>
            <a:off x="1371600" y="4718160"/>
            <a:ext cx="6858000" cy="13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3564000" y="2762280"/>
            <a:ext cx="2520720" cy="2035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due percorsi (anno di prova – anno di di formazione) si integrano ed è necessario il superamento di entrambi ai fini della conferma in ruo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e di formazione il docente sostiene un colloquio innanzi a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mitato di valutazion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a scuola  in cui  effettua l’anno di pr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183E-136F-4E96-8323-D80237803D2D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’integrazione dei percor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6037-A07D-44A1-B608-A4817099C692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708280"/>
            <a:ext cx="8207280" cy="3673440"/>
          </a:xfrm>
          <a:prstGeom prst="rect">
            <a:avLst/>
          </a:prstGeom>
          <a:solidFill>
            <a:srgbClr val="ffffff"/>
          </a:solidFill>
          <a:ln w="6048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a legge n. 107/2015 introduce significativi cambiam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riguardo all’ anno di formazione e di pro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 commi d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15 al 120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trattano  la materia , specificando che, dopo la nomina in ruolo, il personale docente effettua un anno di formazione e prova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 qualunque caso,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  <a:ea typeface="Arial"/>
              </a:rPr>
              <a:t>ripetizione del periodo di prova comporta la partecipazione alle connesse attività di form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che sono da considerarsi parte integrante dello stesso servizio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art. 2 D.M. 850/2015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https://encrypted-tbn0.gstatic.com/images?q=tbn:ANd9GcRz9f6kb02ZInVTl2aP-_0sjhoqGJL49w28shD95cxe9nkAKDR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2064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:\Comunicazione Istituzionale\ARCHIVIO FOTOGRAFICO\JUNIOR CONSLUTING\Formzione manageriale.jpg"/>
          <p:cNvPicPr/>
          <p:nvPr/>
        </p:nvPicPr>
        <p:blipFill>
          <a:blip r:embed="rId3"/>
          <a:stretch/>
        </p:blipFill>
        <p:spPr>
          <a:xfrm>
            <a:off x="5580000" y="620640"/>
            <a:ext cx="2952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'obbligo ad effettuare il periodo di formazione e di prova riguar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</a:t>
            </a:r>
            <a:r>
              <a:rPr b="1" lang="it-IT" sz="2400" spc="-1" strike="noStrike">
                <a:solidFill>
                  <a:srgbClr val="3399ff"/>
                </a:solidFill>
                <a:latin typeface="Calibri"/>
              </a:rPr>
              <a:t>neo-assunti con incarico a tempo indetermina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aspirino alla conferma in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richiesta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roroga del periodo di formazione e pro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 che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abbiano potuto completarl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gli anni preceden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o disposto il </a:t>
            </a:r>
            <a:r>
              <a:rPr b="1" lang="it-IT" sz="2400" spc="-1" strike="noStrike">
                <a:solidFill>
                  <a:srgbClr val="376092"/>
                </a:solidFill>
                <a:latin typeface="Calibri"/>
              </a:rPr>
              <a:t>passaggio di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espress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valutazione negati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 periodo di formazione e di prova. In tale ultimo caso è previsto un secondo periodo di formazione e di prova non rinnova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0800-7938-4A7E-ADC5-8649A4E2B193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stinatari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l periodo 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71280" y="2707920"/>
            <a:ext cx="6777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superamento del periodo di formazione e prova è subordinato allo svolgimento di servizio effettivamente prestato per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corso dell’anno scolastico, di cui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per le attività didat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3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urata e servizi utili ai fini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https://encrypted-tbn1.gstatic.com/images?q=tbn:ANd9GcSsCHTj4DSLJceqsyh3EMFM5Zd7UTef53BplCYgBiIDxUCvYnh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628640"/>
            <a:ext cx="244800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07920"/>
            <a:ext cx="822960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3333cc"/>
                </a:solidFill>
                <a:latin typeface="Calibri"/>
              </a:rPr>
              <a:t>vanno considera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attività connesse al servizio scolastic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periodi di sospensione delle lezioni e delle attività didattich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esami, gli scrutini ed ogni altro impegno di servizi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imo mese del periodo di astensione obbligatoria dal servizio per gravid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vanno considera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congedo ordinario e straordi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spettativa a qualunque tit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ccia a destra 3"/>
          <p:cNvSpPr/>
          <p:nvPr/>
        </p:nvSpPr>
        <p:spPr>
          <a:xfrm>
            <a:off x="468360" y="1413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ccia a destra 5"/>
          <p:cNvSpPr/>
          <p:nvPr/>
        </p:nvSpPr>
        <p:spPr>
          <a:xfrm>
            <a:off x="468360" y="1844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ccia a destra 6"/>
          <p:cNvSpPr/>
          <p:nvPr/>
        </p:nvSpPr>
        <p:spPr>
          <a:xfrm>
            <a:off x="468360" y="2276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ccia a destra 7"/>
          <p:cNvSpPr/>
          <p:nvPr/>
        </p:nvSpPr>
        <p:spPr>
          <a:xfrm>
            <a:off x="468360" y="270828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ccia a destra 8"/>
          <p:cNvSpPr/>
          <p:nvPr/>
        </p:nvSpPr>
        <p:spPr>
          <a:xfrm>
            <a:off x="468360" y="436572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ccia a destra 9"/>
          <p:cNvSpPr/>
          <p:nvPr/>
        </p:nvSpPr>
        <p:spPr>
          <a:xfrm>
            <a:off x="468360" y="4869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63480" y="1773360"/>
            <a:ext cx="77248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ttività didattica </a:t>
            </a:r>
            <a:r>
              <a:rPr b="1" lang="it-IT" sz="2400" spc="-1" strike="noStrike">
                <a:solidFill>
                  <a:srgbClr val="31859c"/>
                </a:solidFill>
                <a:latin typeface="Calibri"/>
              </a:rPr>
              <a:t>vanno compres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effettivi di insegnamen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impiegati presso la sede di servizio per ogni altra attività preordinata al migliore svolgimento dell’azione didattica, ivi comprese la valutazione, la progettazione, la formazione, le attività colleg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ccia a destra 3"/>
          <p:cNvSpPr/>
          <p:nvPr/>
        </p:nvSpPr>
        <p:spPr>
          <a:xfrm>
            <a:off x="611280" y="2276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ccia a destra 4"/>
          <p:cNvSpPr/>
          <p:nvPr/>
        </p:nvSpPr>
        <p:spPr>
          <a:xfrm>
            <a:off x="611280" y="2781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differimento della presa di servizio, il periodo di formazione e prova può essere svolto nell’anno scolastico di decorrenza giuridica della nomina anche presso l’istituzione scolastica statale ove è svolta l’eventuale supplenza annuale o sino al termine del servizio purché sul </a:t>
            </a:r>
            <a:r>
              <a:rPr b="1" lang="it-IT" sz="2400" spc="-1" strike="noStrike">
                <a:solidFill>
                  <a:srgbClr val="0033cc"/>
                </a:solidFill>
                <a:latin typeface="Calibri"/>
              </a:rPr>
              <a:t>medesimo posto o classe di concorso af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tale caso la formazione è effettuata con riferimento al posto  o alla classe i concorso di immissione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138-77C5-4B6D-A598-DFF47A6F3EBD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ifferimento della presa di serviz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1413000"/>
            <a:ext cx="87854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che presta servizio in qualità di supplente può svolgere,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su richiest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a seguito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utorizzazione del Dirigente dell’Ambito Territori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mpetente, il periodo di prova e formazione nella scuola di servizio, nel rispetto dei seguenti  crite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la supplenza su posto di </a:t>
            </a:r>
            <a:r>
              <a:rPr b="1" lang="it-IT" sz="2000" spc="-1" strike="noStrike" u="sng">
                <a:solidFill>
                  <a:srgbClr val="3366ff"/>
                </a:solidFill>
                <a:uFillTx/>
                <a:latin typeface="Calibri"/>
              </a:rPr>
              <a:t>sostegno per la scuola dell’infanzia e per la scuola primari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dell’infanzia o primari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la supplenza su posto di </a:t>
            </a:r>
            <a:r>
              <a:rPr b="1" lang="it-IT" sz="2000" spc="-1" strike="noStrike" u="sng">
                <a:solidFill>
                  <a:srgbClr val="3333cc"/>
                </a:solidFill>
                <a:uFillTx/>
                <a:latin typeface="Calibri"/>
              </a:rPr>
              <a:t>sostegno per la scuola secondaria di primo e di secondo grad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secondaria di primo e di secondo grad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per le classi di concorso, la supplenza è valida sullo specifico grado di istruzione e in considerazione della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Calibri"/>
              </a:rPr>
              <a:t>corrispondenza degli insegnamenti impartiti con quelli relativi alla classe di concorso di immissione in ruo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18F-9689-48E9-A375-8B0B7795CEC2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articolari situazioni di servizio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033-5376-4908-8DE0-534A2349ECF8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227664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Aspetti didattici, organizzativi e amministr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https://encrypted-tbn3.gstatic.com/images?q=tbn:ANd9GcRE12sw25IubcbfMy_5p05FlaU48KnnV_6BIM44tGhXwbOueKzAtDPjHEP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221000"/>
            <a:ext cx="2159280" cy="149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TF016056"/>
          <p:cNvPicPr/>
          <p:nvPr/>
        </p:nvPicPr>
        <p:blipFill>
          <a:blip r:embed="rId3"/>
          <a:stretch/>
        </p:blipFill>
        <p:spPr>
          <a:xfrm>
            <a:off x="5940360" y="549360"/>
            <a:ext cx="1944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state%202006%20grecia3%20049"/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wko138"/>
          <p:cNvPicPr/>
          <p:nvPr/>
        </p:nvPicPr>
        <p:blipFill>
          <a:blip r:embed="rId5"/>
          <a:stretch/>
        </p:blipFill>
        <p:spPr>
          <a:xfrm>
            <a:off x="5940360" y="4221000"/>
            <a:ext cx="2087640" cy="1497240"/>
          </a:xfrm>
          <a:prstGeom prst="rect">
            <a:avLst/>
          </a:prstGeom>
          <a:ln w="0">
            <a:noFill/>
          </a:ln>
        </p:spPr>
      </p:pic>
      <p:sp>
        <p:nvSpPr>
          <p:cNvPr id="138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eriodo di prova e di formazione dei docenti e degli educatori neo assunti ha l’obiettivo di verificar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0000ff"/>
                </a:solidFill>
                <a:latin typeface="Calibri"/>
              </a:rPr>
              <a:t>corretto possesso ed esercizio delle competenze culturali, disciplinari, didattiche e metodolog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on riferimento ai nuclei fondanti dei saperi, ai traguardi di competenza e agli obiettivi di apprendimento previsti dagli ordinamenti vigenti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3366ff"/>
                </a:solidFill>
                <a:latin typeface="Calibri"/>
              </a:rPr>
              <a:t>corretto possesso ed esercizio delle competenze relazionali, organizzative e gestionali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osservanza dei doveri connessi con lo status di dipendente pubblic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e inerenti la funzione docent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500" spc="-1" strike="noStrike">
                <a:solidFill>
                  <a:srgbClr val="376092"/>
                </a:solidFill>
                <a:latin typeface="Calibri"/>
              </a:rPr>
              <a:t>partecipazione alle attività formative e il raggiungimento degli obiettivi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dalle stesse previ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 per la valutazione del docente in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ccia a destra 4"/>
          <p:cNvSpPr/>
          <p:nvPr/>
        </p:nvSpPr>
        <p:spPr>
          <a:xfrm>
            <a:off x="108000" y="227664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ccia a destra 5"/>
          <p:cNvSpPr/>
          <p:nvPr/>
        </p:nvSpPr>
        <p:spPr>
          <a:xfrm>
            <a:off x="108000" y="386064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ccia a destra 6"/>
          <p:cNvSpPr/>
          <p:nvPr/>
        </p:nvSpPr>
        <p:spPr>
          <a:xfrm>
            <a:off x="108000" y="458136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ccia a destra 7"/>
          <p:cNvSpPr/>
          <p:nvPr/>
        </p:nvSpPr>
        <p:spPr>
          <a:xfrm>
            <a:off x="108000" y="522936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836280"/>
            <a:ext cx="82296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. Oggetto, finalità e destinat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inalità dell’anno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Rapporto tra anno di prova e 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’integrazione dei percor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estinatari dell’anno di  prova e dell’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urata e servizi utili ai fini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ifferimento della presa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articolari  situazioni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. Aspetti didattici, organizzativi e amministr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Criteri per la valutazione del docente in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Bilancio delle competenze, analisi dei bisogni e obiettivi della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e quattro fasi del percorso form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Docente Tu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portfolio profess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rocedure per la valutazione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a conferma in ruo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FF6-2579-46C6-9BA0-2D5E2D6AD6F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195640" y="44280"/>
            <a:ext cx="4321080" cy="86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NTENUT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6840" y="1052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dette finalità il Dirigente Scolastico mette a disposizione del docent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iano dell’Offerta Formativ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documentazione tecnico-didattica delle class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i pertinenza del docente neo immesso in ruol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a base di  tali documenti il docente predispon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 programmazione annual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esiti di apprendiment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ttesi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metodologie didatt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a utilizzar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ategie inclusiv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gli alunni BES e per le eccellenz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umenti e sui criteri di valutazion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egli alunn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4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libro_aperto"/>
          <p:cNvPicPr/>
          <p:nvPr/>
        </p:nvPicPr>
        <p:blipFill>
          <a:blip r:embed="rId1"/>
          <a:stretch/>
        </p:blipFill>
        <p:spPr>
          <a:xfrm>
            <a:off x="7207200" y="1628640"/>
            <a:ext cx="125244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Foto%20Protocollo"/>
          <p:cNvPicPr/>
          <p:nvPr/>
        </p:nvPicPr>
        <p:blipFill>
          <a:blip r:embed="rId2"/>
          <a:stretch/>
        </p:blipFill>
        <p:spPr>
          <a:xfrm>
            <a:off x="250920" y="3357720"/>
            <a:ext cx="1296720" cy="993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a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i fini della verifica del criterio b) sono valut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’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attitudine collaborativa del docent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i contesti didattici, progettuali, collegial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 le famiglie e con il personale scolastic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capacità di affrontare situazioni relazional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lesse e dinamiche intercultural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partecipazione attiva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l sostegno ai piani di miglioramento dell’istituzione scolast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b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7308720" y="4941720"/>
            <a:ext cx="1219320" cy="10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tavolo_lavoro"/>
          <p:cNvPicPr/>
          <p:nvPr/>
        </p:nvPicPr>
        <p:blipFill>
          <a:blip r:embed="rId2"/>
          <a:stretch/>
        </p:blipFill>
        <p:spPr>
          <a:xfrm>
            <a:off x="1258920" y="5661000"/>
            <a:ext cx="1800360" cy="119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AA041000087"/>
          <p:cNvPicPr/>
          <p:nvPr/>
        </p:nvPicPr>
        <p:blipFill>
          <a:blip r:embed="rId3"/>
          <a:stretch/>
        </p:blipFill>
        <p:spPr>
          <a:xfrm>
            <a:off x="7596360" y="260280"/>
            <a:ext cx="11430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c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stituiscono parametri di riferime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. Lgs. n. 165/2001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PR n. 62/2013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Regolamento recante il Codice di comportamento dei dipendenti pubblic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regolamento dell’istituzione scolast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c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d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occorre tenere in considerazione quanto specificato nelle seguenti diapositive dedicate al bilancio delle competenze, ai bisogni formativi e agli obiettivi della formazi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6840" y="1668600"/>
            <a:ext cx="469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l Docente neo immesso in ruolo, entro  il secondo mese di attività, deve predisporre, con la collaborazione del Docente Tutor,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imo bilancio in forma di autovalutazione strutturata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lle proprie competenze, in modo da far emergere i punti  da potenziare, per elaborare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ogetto personalizzato di formazione in servizi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Bilancio di competenze, bisogni formativi e obiettivi della formazio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ttangolo arrotondato 8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imo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ttangolo arrotondato 9"/>
          <p:cNvSpPr/>
          <p:nvPr/>
        </p:nvSpPr>
        <p:spPr>
          <a:xfrm>
            <a:off x="5940360" y="4869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getto personalizzato di formazione in serviz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penna"/>
          <p:cNvPicPr/>
          <p:nvPr/>
        </p:nvPicPr>
        <p:blipFill>
          <a:blip r:embed="rId1"/>
          <a:stretch/>
        </p:blipFill>
        <p:spPr>
          <a:xfrm>
            <a:off x="6156360" y="3141720"/>
            <a:ext cx="1915920" cy="1386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52840" y="404640"/>
            <a:ext cx="51228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assieme al docente neo immesso in ruolo, sentito il Docente Tutor, in relazione ai bisogni della scuola stabiliscono, con un apposi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atto per lo sviluppo profession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gli obiettivi di sviluppo delle competenze culturali, disciplinari, didattico-metodologiche e relazionali da raggiungere o migliorare attraver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ttività formative previste nell’anno di pro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partecipazione alle attività formative attivate dall’istituzione scolas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eventuale utilizzo della carta elettronica per l’aggiorna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www.adiantum.it/public/news/263201118550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233800" cy="3094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947880"/>
            <a:ext cx="37544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il Docente neo immesso in ruolo, con la supervisione del Tutor, traccia un nuovo bilancio di competenze per registrare i progressi professionali e gli eventuali nuovi sviluppi da ipotizz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tangolo arrotondato 6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condo 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firma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33960" y="350028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E5B-B836-4AD6-81B3-B2776154E2A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68360" y="40464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e quattro fasi del percorso formativ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42920" y="1916280"/>
          <a:ext cx="7201080" cy="2287440"/>
        </p:xfrm>
        <a:graphic>
          <a:graphicData uri="http://schemas.openxmlformats.org/drawingml/2006/table">
            <a:tbl>
              <a:tblPr/>
              <a:tblGrid>
                <a:gridCol w="1559160"/>
                <a:gridCol w="1393560"/>
                <a:gridCol w="1440000"/>
                <a:gridCol w="1504800"/>
                <a:gridCol w="1303560"/>
              </a:tblGrid>
              <a:tr h="17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tri propedeutici e di restituzione fi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aboratori formativi dedic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Peer  to p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e osservazione in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zione on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https://encrypted-tbn2.gstatic.com/images?q=tbn:ANd9GcTpyo4T7wlxEk2EG99o5bx6HTFFKtFzBL5fjDwra3J6ZpSlQ6l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422100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https://encrypted-tbn1.gstatic.com/images?q=tbn:ANd9GcRttdHG5ib5-XiJJU92KxyTFMh5EDR1FdSbAHZQvpYguTzJjJ9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4221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6">
            <a:hlinkClick r:id="rId5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8">
            <a:hlinkClick r:id="rId6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2" descr="http://www.edeamicis.com/WEB3/!%20%20%20%20%20%20%20%20%20aom/omini.jpg"/>
          <p:cNvPicPr/>
          <p:nvPr/>
        </p:nvPicPr>
        <p:blipFill>
          <a:blip r:embed="rId7"/>
          <a:stretch/>
        </p:blipFill>
        <p:spPr>
          <a:xfrm>
            <a:off x="1117440" y="4251240"/>
            <a:ext cx="1438560" cy="1409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http://www.edeamicis.com/WEB3/!%20%20%20%20%20%20%20%20%20aom/61.jpg"/>
          <p:cNvPicPr/>
          <p:nvPr/>
        </p:nvPicPr>
        <p:blipFill>
          <a:blip r:embed="rId8"/>
          <a:stretch/>
        </p:blipFill>
        <p:spPr>
          <a:xfrm>
            <a:off x="4098960" y="4253040"/>
            <a:ext cx="155268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https://encrypted-tbn2.gstatic.com/images?q=tbn:ANd9GcQXrecnrV7H57B2rnD2pazUoNyL_gupKglnML7XS_pUVfBw8pFuF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27280" y="4221000"/>
            <a:ext cx="14400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iano di formazione prevede un monte ore svolto in collaborazione con il tutor di scuola e dedicato a momenti di tutoraggio e di osservazione reciproca, di affiancamento nel lavoro didattico, di riflessione e di document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a modalità innovativa, avviata nel corso dell’a.s. 2014/2015,  è stata pensata nell’intento di curvare il periodo di prova  verso una dimension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ncreta esperienza sul camp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mprendendo momenti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reciproca osservazione,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valorizzando le professionalità e l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mpetenze dei docenti più esper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511-D2B9-446F-8EAC-000E2E1039F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Docente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10" descr="http://www.lagattasolution.com/wp-content/uploads/2014/10/collab.jpg"/>
          <p:cNvPicPr/>
          <p:nvPr/>
        </p:nvPicPr>
        <p:blipFill>
          <a:blip r:embed="rId1"/>
          <a:stretch/>
        </p:blipFill>
        <p:spPr>
          <a:xfrm>
            <a:off x="7164360" y="5229360"/>
            <a:ext cx="1657440" cy="1268280"/>
          </a:xfrm>
          <a:prstGeom prst="rect">
            <a:avLst/>
          </a:prstGeom>
          <a:ln w="0">
            <a:noFill/>
          </a:ln>
        </p:spPr>
      </p:pic>
      <p:sp>
        <p:nvSpPr>
          <p:cNvPr id="183" name="Rettangolo arrotondato 7"/>
          <p:cNvSpPr/>
          <p:nvPr/>
        </p:nvSpPr>
        <p:spPr>
          <a:xfrm>
            <a:off x="826920" y="5516640"/>
            <a:ext cx="6048720" cy="105408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alibri"/>
              </a:rPr>
              <a:t>Sono criteri prioritari per la designazione del docente tutor il possesso di uno o più tra i titoli  previsti  dall’allegato A, tabella 1 del D.M. 11.11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6920" y="1603440"/>
            <a:ext cx="7274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tutor svolge i seguenti compiti fondament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ccogli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il neo-assunto nella comunità profession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favorisce la sua partecip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i diversi momenti della vita collegiale della scuol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esercita ogni utile forma di ascolto, consulenza e collabor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migliorare la qualità e l’efficacia dell’insegna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15968"/>
                </a:solidFill>
                <a:latin typeface="Calibri"/>
              </a:rPr>
              <a:t>predispone momenti di reciproca osserv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peer to pe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683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mpiti del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https://encrypted-tbn3.gstatic.com/images?q=tbn:ANd9GcQEIgKCHED7_6_58fbgRcNty_7idZzqlUnhCqAid8D1kkmhM9a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89000"/>
            <a:ext cx="158256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B158-ADB4-4BE3-A1A2-4D183C77289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198756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  <a:ea typeface="Arial"/>
              </a:rPr>
              <a:t>Oggetto, finalità e destinat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8" descr="https://encrypted-tbn0.gstatic.com/images?q=tbn:ANd9GcT5CDNd9dYEtKh5gIrx78Bs-9KtK7TGWXuKQ77QfSeZdNR1Utb2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437000"/>
            <a:ext cx="3600720" cy="14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br9_infanzia_d"/>
          <p:cNvPicPr/>
          <p:nvPr/>
        </p:nvPicPr>
        <p:blipFill>
          <a:blip r:embed="rId3"/>
          <a:stretch/>
        </p:blipFill>
        <p:spPr>
          <a:xfrm>
            <a:off x="5867280" y="299880"/>
            <a:ext cx="2433600" cy="147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OT"/>
          <p:cNvPicPr/>
          <p:nvPr/>
        </p:nvPicPr>
        <p:blipFill>
          <a:blip r:embed="rId4">
            <a:lum bright="14000"/>
          </a:blip>
          <a:stretch/>
        </p:blipFill>
        <p:spPr>
          <a:xfrm>
            <a:off x="755640" y="189000"/>
            <a:ext cx="2303640" cy="160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46670-Scuola2"/>
          <p:cNvPicPr/>
          <p:nvPr/>
        </p:nvPicPr>
        <p:blipFill>
          <a:blip r:embed="rId5"/>
          <a:stretch/>
        </p:blipFill>
        <p:spPr>
          <a:xfrm>
            <a:off x="5292720" y="4437000"/>
            <a:ext cx="3240000" cy="1549440"/>
          </a:xfrm>
          <a:prstGeom prst="rect">
            <a:avLst/>
          </a:prstGeom>
          <a:ln w="0">
            <a:noFill/>
          </a:ln>
        </p:spPr>
      </p:pic>
      <p:sp>
        <p:nvSpPr>
          <p:cNvPr id="61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700000" y="1599840"/>
            <a:ext cx="5986440" cy="4853160"/>
          </a:xfrm>
          <a:prstGeom prst="rect">
            <a:avLst/>
          </a:prstGeom>
          <a:solidFill>
            <a:srgbClr val="66ffff">
              <a:alpha val="1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el corso del periodo di formazione il docente neo-assunto cura la predisposizione di un proprio portfoli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portfoli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è suddiviso in 4 par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descrizione d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curriculum profess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 doc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elaborazione di un bilancio di competenz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ll’inizio del percorso form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documentazione  di fasi significativ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a progettazione didattica, delle attività svolte e delle  verifiche intrapre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realizzazione di un bilancio conclus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previsione di un piano di svilupp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23F6-E533-47B8-93AF-C086F03BA16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portfolio professiona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6" descr="https://encrypted-tbn0.gstatic.com/images?q=tbn:ANd9GcSDzs7mgKYoU-oT0hgkSybSTY_RV7HN7Yr0i94XQ-xjjSP54sJw"/>
          <p:cNvPicPr/>
          <p:nvPr/>
        </p:nvPicPr>
        <p:blipFill>
          <a:blip r:embed="rId1"/>
          <a:stretch/>
        </p:blipFill>
        <p:spPr>
          <a:xfrm>
            <a:off x="468360" y="2708280"/>
            <a:ext cx="2158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ttangolo arrotondato 4"/>
          <p:cNvSpPr/>
          <p:nvPr/>
        </p:nvSpPr>
        <p:spPr>
          <a:xfrm>
            <a:off x="611280" y="2133720"/>
            <a:ext cx="525600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l termine dell’anno di formazione e di prova, nel periodo intercorrente tra il termine delle attività didattiche, compresi gli esami di qualifica e di Stato, e la conclusione dell’anno scolastico, il Comitato di valutazione è convocato dal Dirigente Scolastico per procedere all’espressione del parere sul superamento del periodo di formazione e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rocedure per la valutazione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2" descr="http://archivio.isfol.it/DocEditor/test/Image/label4.JPG"/>
          <p:cNvPicPr/>
          <p:nvPr/>
        </p:nvPicPr>
        <p:blipFill>
          <a:blip r:embed="rId1"/>
          <a:stretch/>
        </p:blipFill>
        <p:spPr>
          <a:xfrm>
            <a:off x="6227640" y="3357720"/>
            <a:ext cx="2772000" cy="186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Nella nuova regia del comitato, ai fini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superamento del periodo di formazione e di prov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 per il personale docente ed educativo, l’organo collegiale è chiamato ad esprimere il proprio parere con un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onente ridott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ossia senza genitori, studenti e membro esterno, ma con la presenza del Dirigente scolastico, che lo presiede, con la rappresentanza dei docenti e del docente cui sono affidate le funzioni di tutor, il quale dovrà presentare le risultanze emergenti dall’istruttoria compiuta in merito alle attività formative e alle esperienze di insegnamento del docente neo-assu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2" descr="http://media.giuntiscuola.it/_tdz/@media_manager/706594/?width=300"/>
          <p:cNvPicPr/>
          <p:nvPr/>
        </p:nvPicPr>
        <p:blipFill>
          <a:blip r:embed="rId1"/>
          <a:stretch/>
        </p:blipFill>
        <p:spPr>
          <a:xfrm>
            <a:off x="6167520" y="331920"/>
            <a:ext cx="2857320" cy="2171520"/>
          </a:xfrm>
          <a:prstGeom prst="rect">
            <a:avLst/>
          </a:prstGeom>
          <a:ln w="0">
            <a:noFill/>
          </a:ln>
        </p:spPr>
      </p:pic>
      <p:sp>
        <p:nvSpPr>
          <p:cNvPr id="197" name="Freccia a destra 16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Comitato di Valutazio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procede alla valutazione del personale docente in periodo di formazione e di prova sulla base dell’istruttoria compiu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Il parere del Comitato è obbligatorio, ma non vincolante per il Dirigente Scolastico che può discostarsene con atto motiv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Il Dirigente Scolastic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6443640" y="523800"/>
            <a:ext cx="2160720" cy="1465200"/>
          </a:xfrm>
          <a:prstGeom prst="rect">
            <a:avLst/>
          </a:prstGeom>
          <a:ln w="0">
            <a:noFill/>
          </a:ln>
        </p:spPr>
      </p:pic>
      <p:sp>
        <p:nvSpPr>
          <p:cNvPr id="203" name="Freccia a destra 7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108360" y="1412640"/>
            <a:ext cx="42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favorevole, il Dirigente Scolastico emette provvedimento motivato di conferma in ruolo per il docente neo-assunto, ai sensi dell’art.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4 del DPR n. 275 del 8/3/9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D967-A545-45C1-A985-E253DE93FC80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a conferma in ruol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6" descr="https://encrypted-tbn3.gstatic.com/images?q=tbn:ANd9GcQllixP4VKX2KbVpp90DD87IVNQ_jjMirbT7kV1GSWaO32kF0Uf61Qs1Q"/>
          <p:cNvPicPr/>
          <p:nvPr/>
        </p:nvPicPr>
        <p:blipFill>
          <a:blip r:embed="rId1"/>
          <a:stretch/>
        </p:blipFill>
        <p:spPr>
          <a:xfrm>
            <a:off x="6443640" y="1341360"/>
            <a:ext cx="1467000" cy="151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s://encrypted-tbn1.gstatic.com/images?q=tbn:ANd9GcR3Dp87WpuNndsu6Qigb6NxCJyiczMw8GUCg9iIj7ylNNwlTfRVAg"/>
          <p:cNvPicPr/>
          <p:nvPr/>
        </p:nvPicPr>
        <p:blipFill>
          <a:blip r:embed="rId2"/>
          <a:stretch/>
        </p:blipFill>
        <p:spPr>
          <a:xfrm>
            <a:off x="1403280" y="4029120"/>
            <a:ext cx="1008000" cy="1560600"/>
          </a:xfrm>
          <a:prstGeom prst="rect">
            <a:avLst/>
          </a:prstGeom>
          <a:ln w="0">
            <a:noFill/>
          </a:ln>
        </p:spPr>
      </p:pic>
      <p:sp>
        <p:nvSpPr>
          <p:cNvPr id="209" name="Segnaposto contenuto 2"/>
          <p:cNvSpPr/>
          <p:nvPr/>
        </p:nvSpPr>
        <p:spPr>
          <a:xfrm>
            <a:off x="4140360" y="2349360"/>
            <a:ext cx="4824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sfavorevole, il D.S. emette provvedimento motivato di ripetizione del periodo di formazione e di prova. Tale provvedimento dovrà indicare gli elementi di criticità emersi e le forme di supporto formativo e di verifica del conseguimento degli standard richiesti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149-899F-4E95-B319-BA68BA2BFA4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1763640" y="155736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Il periodo iniziale di servizio del docente, che coincide con l’anno di prova e di formazione, ha una duplice valenz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da un lato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si consolidano le basi formative  previste dal profilo docen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dall’altro s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verificano le competenze professionali del docent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, osservate nell’azione didattica e nelle attività ad essa preordinate e ad essa strumentali, nonché nell’ambito delle dinamiche organizzative dell’istituzione scolastica, al fine di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conseguire gli standard professionali richies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195640" y="260280"/>
            <a:ext cx="4321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inalità dell’anno di formazione e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67F6-DB03-4917-AB2A-FC3A5F3B363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onti normati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9080" y="1628640"/>
            <a:ext cx="5867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LEGGE N. 270/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art. 440 D.Lgs.vo n. 297/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24000" y="5373720"/>
            <a:ext cx="5867280" cy="799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Istituzione corso di formazi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per i docenti neoassu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627280" y="2565360"/>
            <a:ext cx="1219320" cy="2664000"/>
          </a:xfrm>
          <a:prstGeom prst="downArrow">
            <a:avLst>
              <a:gd name="adj1" fmla="val 50000"/>
              <a:gd name="adj2" fmla="val 24984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ttangolo arrotondato 7"/>
          <p:cNvSpPr/>
          <p:nvPr/>
        </p:nvSpPr>
        <p:spPr>
          <a:xfrm>
            <a:off x="5292720" y="1989000"/>
            <a:ext cx="3816360" cy="417672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176720"/>
              <a:gd name="textAreaBottom" fmla="*/ 3990600 h 4176720"/>
            </a:gdLst>
            <a:ahLst/>
            <a:rect l="textAreaLeft" t="textAreaTop" r="textAreaRight" b="textAreaBottom"/>
            <a:pathLst>
              <a:path w="21600" h="23639">
                <a:moveTo>
                  <a:pt x="3600" y="0"/>
                </a:moveTo>
                <a:arcTo wR="3600" hR="3600" stAng="16200000" swAng="-5400000"/>
                <a:lnTo>
                  <a:pt x="0" y="20039"/>
                </a:lnTo>
                <a:arcTo wR="3600" hR="3600" stAng="10800000" swAng="-5400000"/>
                <a:lnTo>
                  <a:pt x="18000" y="236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'anno di formazione ha inizio con l'anno scolastico dal quale decorrono le nomine e termina con la fine delle lezioni; per la sua validità è richiesto un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rvizio minimo di 180 giorni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 fini della conferma in ruolo i docenti, al termine dell'anno di formazione, discutono con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una relazione sulle esperienze e sulle attività svolte.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ulla base di essa e degli altri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menti di valutazione forniti dal Capo d'istitut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esprime il parere per la conferma in ruol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”.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F-media14"/>
          <p:cNvPicPr/>
          <p:nvPr/>
        </p:nvPicPr>
        <p:blipFill>
          <a:blip r:embed="rId1"/>
          <a:stretch/>
        </p:blipFill>
        <p:spPr>
          <a:xfrm>
            <a:off x="6012000" y="281160"/>
            <a:ext cx="2736720" cy="1203120"/>
          </a:xfrm>
          <a:prstGeom prst="rect">
            <a:avLst/>
          </a:prstGeom>
          <a:ln w="0">
            <a:noFill/>
          </a:ln>
        </p:spPr>
      </p:pic>
      <p:sp>
        <p:nvSpPr>
          <p:cNvPr id="72" name="Freccia circolare a destra 8"/>
          <p:cNvSpPr/>
          <p:nvPr/>
        </p:nvSpPr>
        <p:spPr>
          <a:xfrm>
            <a:off x="900000" y="1700280"/>
            <a:ext cx="503280" cy="649080"/>
          </a:xfrm>
          <a:custGeom>
            <a:avLst/>
            <a:gdLst>
              <a:gd name="textAreaLeft" fmla="*/ 67320 w 503280"/>
              <a:gd name="textAreaRight" fmla="*/ 435960 w 503280"/>
              <a:gd name="textAreaTop" fmla="*/ 114840 h 649080"/>
              <a:gd name="textAreaBottom" fmla="*/ 47124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61" stAng="-5400000" swAng="-5400000"/>
                <a:lnTo>
                  <a:pt x="0" y="11846"/>
                </a:lnTo>
                <a:arcTo wR="21600" hR="7661" stAng="10800000" swAng="-3236756"/>
                <a:lnTo>
                  <a:pt x="16200" y="21357"/>
                </a:lnTo>
                <a:lnTo>
                  <a:pt x="21600" y="17415"/>
                </a:lnTo>
                <a:lnTo>
                  <a:pt x="16200" y="12986"/>
                </a:lnTo>
                <a:lnTo>
                  <a:pt x="16200" y="15079"/>
                </a:lnTo>
                <a:arcTo wR="21600" hR="7661" stAng="7563244" swAng="2891723"/>
                <a:lnTo>
                  <a:pt x="821" y="9754"/>
                </a:lnTo>
                <a:arcTo wR="21600" hR="7661" stAng="-10454967" swAng="5054967"/>
                <a:close/>
              </a:path>
              <a:path fill="darkenLess" w="21600" h="21600">
                <a:moveTo>
                  <a:pt x="21600" y="0"/>
                </a:moveTo>
                <a:arcTo wR="21600" hR="7661" stAng="-5400000" swAng="-5400000"/>
                <a:lnTo>
                  <a:pt x="0" y="7661"/>
                </a:lnTo>
                <a:arcTo wR="21600" hR="7661" stAng="10800000" swAng="-345033"/>
                <a:lnTo>
                  <a:pt x="821" y="9754"/>
                </a:lnTo>
                <a:arcTo wR="21600" hR="7661" stAng="-10454967" swAng="505496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E519-639B-4AC0-9261-ADA73ADD8FD5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00000" y="1628640"/>
            <a:ext cx="720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C. C.N.L. Comparto Scuola 2006/20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69236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ttangolo arrotondato 7"/>
          <p:cNvSpPr/>
          <p:nvPr/>
        </p:nvSpPr>
        <p:spPr>
          <a:xfrm>
            <a:off x="179280" y="3284640"/>
            <a:ext cx="5832720" cy="34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27 “Il profilo professionale dei docenti è costituito da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etenze disciplinari, psicopedagogiche, metodologico-didattiche, organizzativo - relazionali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cerca, documentazione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alutazione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ra loro correlate ed interagenti, che si sviluppano col maturare dell’esperienza didattica, l’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ività di studio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stematizzazione della pratica didattica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I contenuti della prestazione professionale del docente si definiscono nel quadro degli obiettivi generali perseguiti dal sistema nazionale di istruzione e nel rispetto degli indirizzi delineati nel piano dell’offerta formativa della scuol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9" descr="https://encrypted-tbn3.gstatic.com/images?q=tbn:ANd9GcTIZuMRPsyeh7YahLkFOqHw6n_CPXqD7pO70FhkyGDVt7iVvhT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761080" cy="143964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arrotondato 6"/>
          <p:cNvSpPr/>
          <p:nvPr/>
        </p:nvSpPr>
        <p:spPr>
          <a:xfrm>
            <a:off x="6156360" y="3284640"/>
            <a:ext cx="2663640" cy="338616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386160"/>
              <a:gd name="textAreaBottom" fmla="*/ 3256200 h 3386160"/>
            </a:gdLst>
            <a:ahLst/>
            <a:rect l="textAreaLeft" t="textAreaTop" r="textAreaRight" b="textAreaBottom"/>
            <a:pathLst>
              <a:path w="21600" h="27458">
                <a:moveTo>
                  <a:pt x="3600" y="0"/>
                </a:moveTo>
                <a:arcTo wR="3600" hR="3600" stAng="16200000" swAng="-5400000"/>
                <a:lnTo>
                  <a:pt x="0" y="23858"/>
                </a:lnTo>
                <a:arcTo wR="3600" hR="3600" stAng="10800000" swAng="-5400000"/>
                <a:lnTo>
                  <a:pt x="18000" y="274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68 “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 i docenti a tempo indeterminato, di nuova assunzione, l’anno di formazione trova realizzazione attraverso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i progetti contestualizzati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anche con la collaborazione di reti  e/o consorzi di scuol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65964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184-410C-456C-9CFA-1FCD1D98E9A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080" y="333360"/>
            <a:ext cx="5867280" cy="15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Legge n. 107/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“</a:t>
            </a: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Riforma del sistema nazion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di istruzione e formazione  e delega 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il riordino delle disposizioni legislative vigenti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ttangolo arrotondato 7"/>
          <p:cNvSpPr/>
          <p:nvPr/>
        </p:nvSpPr>
        <p:spPr>
          <a:xfrm>
            <a:off x="1042920" y="2060640"/>
            <a:ext cx="3673440" cy="422100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4221000"/>
              <a:gd name="textAreaBottom" fmla="*/ 4041720 h 4221000"/>
            </a:gdLst>
            <a:ahLst/>
            <a:rect l="textAreaLeft" t="textAreaTop" r="textAreaRight" b="textAreaBottom"/>
            <a:pathLst>
              <a:path w="21600" h="24819">
                <a:moveTo>
                  <a:pt x="3600" y="0"/>
                </a:moveTo>
                <a:arcTo wR="3600" hR="3600" stAng="16200000" swAng="-5400000"/>
                <a:lnTo>
                  <a:pt x="0" y="21219"/>
                </a:lnTo>
                <a:arcTo wR="3600" hR="3600" stAng="10800000" swAng="-5400000"/>
                <a:lnTo>
                  <a:pt x="18000" y="24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 legge n. 107/2015 introduce significativi cambiamenti in materia di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 di prova 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di formazione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I commi dal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15 al 120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trattano della materia, specificando che, dopo la nomina in ruolo, il personale docente effettua un anno di formazione e prova ai fini della conferma in ruolo</a:t>
            </a:r>
            <a:r>
              <a:rPr b="0" i="1" lang="it-IT" sz="2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AutoShape 10">
            <a:hlinkClick r:id="rId1"/>
          </p:cNvPr>
          <p:cNvSpPr/>
          <p:nvPr/>
        </p:nvSpPr>
        <p:spPr>
          <a:xfrm>
            <a:off x="54000" y="-1249200"/>
            <a:ext cx="3333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2" descr="http://www.documentazione.info/sites/default/files/field/image/lezione_scuola.jpg"/>
          <p:cNvPicPr/>
          <p:nvPr/>
        </p:nvPicPr>
        <p:blipFill>
          <a:blip r:embed="rId2"/>
          <a:stretch/>
        </p:blipFill>
        <p:spPr>
          <a:xfrm>
            <a:off x="6588000" y="4724280"/>
            <a:ext cx="216072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18" descr="lezione in aula"/>
          <p:cNvPicPr/>
          <p:nvPr/>
        </p:nvPicPr>
        <p:blipFill>
          <a:blip r:embed="rId3"/>
          <a:stretch/>
        </p:blipFill>
        <p:spPr>
          <a:xfrm>
            <a:off x="6804000" y="1125360"/>
            <a:ext cx="2089080" cy="1511640"/>
          </a:xfrm>
          <a:prstGeom prst="rect">
            <a:avLst/>
          </a:prstGeom>
          <a:ln w="0">
            <a:noFill/>
          </a:ln>
        </p:spPr>
      </p:pic>
      <p:sp>
        <p:nvSpPr>
          <p:cNvPr id="88" name="Freccia circolare a destra 14"/>
          <p:cNvSpPr/>
          <p:nvPr/>
        </p:nvSpPr>
        <p:spPr>
          <a:xfrm rot="16200000">
            <a:off x="5763960" y="2261520"/>
            <a:ext cx="809640" cy="2130480"/>
          </a:xfrm>
          <a:custGeom>
            <a:avLst/>
            <a:gdLst>
              <a:gd name="textAreaLeft" fmla="*/ 108360 w 809640"/>
              <a:gd name="textAreaRight" fmla="*/ 701280 w 809640"/>
              <a:gd name="textAreaTop" fmla="*/ 456480 h 2130480"/>
              <a:gd name="textAreaBottom" fmla="*/ 15724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61" stAng="-5400000" swAng="-5400000"/>
                <a:lnTo>
                  <a:pt x="0" y="11313"/>
                </a:lnTo>
                <a:arcTo wR="21600" hR="9261" stAng="10800000" swAng="-3536586"/>
                <a:lnTo>
                  <a:pt x="16200" y="21306"/>
                </a:lnTo>
                <a:lnTo>
                  <a:pt x="21600" y="19548"/>
                </a:lnTo>
                <a:lnTo>
                  <a:pt x="16200" y="17202"/>
                </a:lnTo>
                <a:lnTo>
                  <a:pt x="16200" y="18228"/>
                </a:lnTo>
                <a:arcTo wR="21600" hR="9261" stAng="7263414" swAng="3372406"/>
                <a:lnTo>
                  <a:pt x="133" y="10287"/>
                </a:lnTo>
                <a:arcTo wR="21600" hR="9261" stAng="-10635821" swAng="5235821"/>
                <a:close/>
              </a:path>
              <a:path fill="darkenLess" w="21600" h="21600">
                <a:moveTo>
                  <a:pt x="21600" y="0"/>
                </a:moveTo>
                <a:arcTo wR="21600" hR="9261" stAng="-5400000" swAng="-5400000"/>
                <a:lnTo>
                  <a:pt x="0" y="9261"/>
                </a:lnTo>
                <a:arcTo wR="21600" hR="9261" stAng="10800000" swAng="-164179"/>
                <a:lnTo>
                  <a:pt x="133" y="10287"/>
                </a:lnTo>
                <a:arcTo wR="21600" hR="9261" stAng="-10635821" swAng="52358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ccia circolare a destra 15"/>
          <p:cNvSpPr/>
          <p:nvPr/>
        </p:nvSpPr>
        <p:spPr>
          <a:xfrm flipH="1" rot="16200000">
            <a:off x="5862600" y="3165120"/>
            <a:ext cx="701640" cy="2130480"/>
          </a:xfrm>
          <a:custGeom>
            <a:avLst/>
            <a:gdLst>
              <a:gd name="textAreaLeft" fmla="*/ 93960 w 701640"/>
              <a:gd name="textAreaRight" fmla="*/ 607680 w 701640"/>
              <a:gd name="textAreaTop" fmla="*/ 466560 h 2130480"/>
              <a:gd name="textAreaBottom" fmla="*/ 15760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6" stAng="-5400000" swAng="-5400000"/>
                <a:lnTo>
                  <a:pt x="0" y="11245"/>
                </a:lnTo>
                <a:arcTo wR="21600" hR="9466" stAng="10800000" swAng="-3569678"/>
                <a:lnTo>
                  <a:pt x="16200" y="21299"/>
                </a:lnTo>
                <a:lnTo>
                  <a:pt x="21600" y="19822"/>
                </a:lnTo>
                <a:lnTo>
                  <a:pt x="16200" y="17742"/>
                </a:lnTo>
                <a:lnTo>
                  <a:pt x="16200" y="18631"/>
                </a:lnTo>
                <a:arcTo wR="21600" hR="9466" stAng="7230322" swAng="3427561"/>
                <a:lnTo>
                  <a:pt x="96" y="10355"/>
                </a:lnTo>
                <a:arcTo wR="21600" hR="9466" stAng="-10657884" swAng="5257884"/>
                <a:close/>
              </a:path>
              <a:path fill="darkenLess" w="21600" h="21600">
                <a:moveTo>
                  <a:pt x="21600" y="0"/>
                </a:moveTo>
                <a:arcTo wR="21600" hR="9466" stAng="-5400000" swAng="-5400000"/>
                <a:lnTo>
                  <a:pt x="0" y="9466"/>
                </a:lnTo>
                <a:arcTo wR="21600" hR="9466" stAng="10800000" swAng="-142116"/>
                <a:lnTo>
                  <a:pt x="96" y="10355"/>
                </a:lnTo>
                <a:arcTo wR="21600" hR="9466" stAng="-10657884" swAng="525788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FA1-63A2-48DB-B0FE-AFDF819ACF1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97080" y="1052640"/>
            <a:ext cx="5507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Decreto Ministeriale n. 850 del 27.10.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5219640" y="1844640"/>
            <a:ext cx="1219320" cy="3168720"/>
          </a:xfrm>
          <a:prstGeom prst="downArrow">
            <a:avLst>
              <a:gd name="adj1" fmla="val 50000"/>
              <a:gd name="adj2" fmla="val 24989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ttangolo arrotondato 7"/>
          <p:cNvSpPr/>
          <p:nvPr/>
        </p:nvSpPr>
        <p:spPr>
          <a:xfrm>
            <a:off x="34920" y="1989000"/>
            <a:ext cx="3816360" cy="30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l decreto individua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li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biettivi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dalità di valutazione del grado di raggiungimento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egli stess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ttività formativ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e i 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riteri per la valutazion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el personale do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d educativo in periodo di formazione e di pro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03640" y="5300640"/>
            <a:ext cx="5257800" cy="1224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emanato ai sensi dell’articolo 1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comma 118 della legge 13 luglio 2015, n. 1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0802_convegni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29528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96" name="Picture 8" descr="https://encrypted-tbn0.gstatic.com/images?q=tbn:ANd9GcT5CDNd9dYEtKh5gIrx78Bs-9KtK7TGWXuKQ77QfSeZdNR1Utb2Y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229360"/>
            <a:ext cx="2232000" cy="1328760"/>
          </a:xfrm>
          <a:prstGeom prst="rect">
            <a:avLst/>
          </a:prstGeom>
          <a:ln w="41400">
            <a:solidFill>
              <a:srgbClr val="ff3399"/>
            </a:solidFill>
            <a:miter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obbligo contrattuale del neo-assunto comprende 2 percor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Pr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For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termini “prova” e “formazione” sono talvolta utilizzati, erroneamente, come sinonimi, sebbene sottendano istituti che hanno presupposti differe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prova assolve ad un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teresse meramente amministrativ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formazione rispecchia la necessità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re, aggiornare,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punto di vista educativo-didattico-metodologico, il docente immesso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AD6B-5FAF-45EE-95AB-801B81356B8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Rapporto tra anno di prova 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anno di formazion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ccia a destra 5"/>
          <p:cNvSpPr/>
          <p:nvPr/>
        </p:nvSpPr>
        <p:spPr>
          <a:xfrm>
            <a:off x="324000" y="1989000"/>
            <a:ext cx="431640" cy="28764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ccia a destra 6"/>
          <p:cNvSpPr/>
          <p:nvPr/>
        </p:nvSpPr>
        <p:spPr>
          <a:xfrm>
            <a:off x="250920" y="249408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25:47Z</dcterms:created>
  <dc:creator>utente</dc:creator>
  <dc:description/>
  <dc:language>en-US</dc:language>
  <cp:lastModifiedBy>Administrator</cp:lastModifiedBy>
  <dcterms:modified xsi:type="dcterms:W3CDTF">2015-11-11T10:53:38Z</dcterms:modified>
  <cp:revision>219</cp:revision>
  <dc:subject/>
  <dc:title>Diapositiva 1</dc:title>
</cp:coreProperties>
</file>